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ED1-8168-427D-90FE-07263378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CF4-CB0F-4901-A5F1-4A1EAFF1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CA3-0011-4975-AADC-BD62016D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F6C-1B43-419F-A224-517C438E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9F3-262E-4723-AB30-2BEC1D72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21F-9641-40D8-8B0C-63BFE5A4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B7F-2F93-4D31-BFAC-A690A3F4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DBC4-84AC-41EC-A417-D84ED29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43F9-39E1-46CA-B693-AB1A0C1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3F6A-3CA0-46C5-8411-15C6911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D1B0-D46C-4055-ABEE-2419644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AF3-7E14-4888-ADAA-D52CDFE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9803-7523-47DB-AD70-19B4957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3190-20B2-4645-B9E4-DF8A0AA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2439-0B4A-45EE-926D-0E6CBFA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2AB9-8D88-4DB1-91E1-834350B3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654E-61EE-4547-B7FD-E6703EB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5A8-2B81-44BE-9995-B28E7B9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B06-EB29-47A0-99BC-7227883F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D93-C0F5-4856-A461-A5245C2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A5E-B85B-4E95-AC53-66BE5281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83C-3C68-4260-A514-0800495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C8C-8796-41E9-8D6D-843BFC9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756-78C9-4386-A595-9AABFA4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F66-7735-461F-8477-C7DCBA736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702-3556-4509-AE33-6FE325809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assic Art Sampl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4</a:t>
            </a:r>
            <a:r>
              <a:rPr b="0" lang="en-US" sz="44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Grade Curriculum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6" name="ChristensenRhino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9884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944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rge Otting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486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OttingerImmigrant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3983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38280" y="5715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migrant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467480" cy="79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incent Van Gog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VanGoghBedroom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873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5248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edroom at Ar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380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351000"/>
            <a:ext cx="243828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an Verme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VermeerLetter" descr=""/>
          <p:cNvPicPr/>
          <p:nvPr/>
        </p:nvPicPr>
        <p:blipFill>
          <a:blip r:embed="rId1"/>
          <a:stretch/>
        </p:blipFill>
        <p:spPr>
          <a:xfrm>
            <a:off x="3859200" y="228600"/>
            <a:ext cx="5284800" cy="6400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14600" y="32004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jor Perio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o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et’s Learn About Artists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362320"/>
            <a:ext cx="8915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y searching their na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By searching for certain styles or perio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001000" y="4876920"/>
            <a:ext cx="533520" cy="533160"/>
          </a:xfrm>
          <a:custGeom>
            <a:avLst/>
            <a:gdLst>
              <a:gd name="textAreaLeft" fmla="*/ 53640 w 533520"/>
              <a:gd name="textAreaRight" fmla="*/ 479880 w 533520"/>
              <a:gd name="textAreaTop" fmla="*/ 53640 h 533160"/>
              <a:gd name="textAreaBottom" fmla="*/ 47952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9429" y="2186"/>
                </a:lnTo>
                <a:lnTo>
                  <a:pt x="2186" y="2186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9429" y="19414"/>
                </a:lnTo>
                <a:lnTo>
                  <a:pt x="19429" y="2186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2186" y="19414"/>
                </a:lnTo>
                <a:lnTo>
                  <a:pt x="19429" y="19414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2186" y="2186"/>
                </a:lnTo>
                <a:lnTo>
                  <a:pt x="2186" y="19414"/>
                </a:lnTo>
                <a:close/>
              </a:path>
              <a:path fill="darken" w="21615" h="21600">
                <a:moveTo>
                  <a:pt x="4387" y="4379"/>
                </a:moveTo>
                <a:lnTo>
                  <a:pt x="17228" y="10800"/>
                </a:lnTo>
                <a:lnTo>
                  <a:pt x="4387" y="17221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2438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me Famous Artis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rge Be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Cezan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Christen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ise Farnswo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en Frankentha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äthe Kollw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rge Ott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ent Van Go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 Verm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685800" y="1981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2514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685800" y="3048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685800" y="3505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685800" y="4038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685800" y="4572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685800" y="5029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68580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BellowsDempsey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751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rge Bellow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6386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lbertus Extra Bold"/>
              </a:rPr>
              <a:t>Dempsey and Fir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ezanneAppsorgs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172200" cy="4873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5790960" cy="79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aul Cezan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19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es and O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57200" y="5791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3048120" cy="1371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ames Christens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ChristensenRhino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956120" cy="62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43000" y="3581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lbertus Extra Bold"/>
              </a:rPr>
              <a:t>Rhinoc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80880" y="6019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ouise Farnswor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8" name="FarnsworthCapitol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30920" cy="451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6019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pitol from North Salt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94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4267080" cy="1630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len 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rankenthal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FrankenthalerBlueAtmos" descr=""/>
          <p:cNvPicPr/>
          <p:nvPr/>
        </p:nvPicPr>
        <p:blipFill>
          <a:blip r:embed="rId1"/>
          <a:stretch/>
        </p:blipFill>
        <p:spPr>
          <a:xfrm>
            <a:off x="5089680" y="304920"/>
            <a:ext cx="3795480" cy="632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19320" y="3276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lue Atmo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49568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äthe Kollwit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9528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ther Ar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KollwitzMother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38720" cy="6400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2514600"/>
            <a:ext cx="152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other and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4:39:53Z</dcterms:created>
  <dc:creator>Inst</dc:creator>
  <dc:description/>
  <dc:language>en-US</dc:language>
  <cp:lastModifiedBy>Inst</cp:lastModifiedBy>
  <dcterms:modified xsi:type="dcterms:W3CDTF">2000-06-16T20:45:47Z</dcterms:modified>
  <cp:revision>7</cp:revision>
  <dc:subject/>
  <dc:title>PowerPoint Presentation</dc:title>
</cp:coreProperties>
</file>